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7.png" ContentType="image/png"/>
  <Override PartName="/ppt/media/image10.wmf" ContentType="image/x-wmf"/>
  <Override PartName="/ppt/media/image6.wmf" ContentType="image/x-wmf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A199-00A2-400F-822F-09C03616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CF0-38B5-4EB9-B22A-2686EC5B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CB8-D3B2-4FE3-B0B6-C9A941F7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1C2-DCF1-43C5-A8E2-363833AE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69BA-1859-4EF8-982D-060E151C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BE5E-560F-463A-953B-C257D4DA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BA3B-FE0B-426B-A2F5-B40AF517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1A1E-F634-4EC2-8B3B-B98E66EF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43A3-646A-453E-BD05-98B23AD1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9419-4A1E-489D-87D0-2F5A87A7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63E6-9D40-42B1-9258-D56B00A9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586-0002-4388-AFD6-2580FB59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2107-0830-4763-A7A1-C48DFC98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5F4D-204E-4100-A4B5-8B66E1EC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D454-95B7-4157-9CC6-201A631A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C43F-4297-451C-9C43-1B05B085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9CD6-DD75-4369-B97A-398C250E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131D3-3CA4-4F92-9DEC-FA24C932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3FD31-5E30-4D89-9319-07AA6EB4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8B85F-8B3E-4706-A88F-A504E680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4FEBF-485F-47DE-A5B4-0DBA3F7E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C17A2-1D1E-4CC4-8A44-D5BD6E4D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6DB-1CAC-4CD2-8A66-C8A8CFEC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F9B1E-FD43-4085-BE96-3455DB9F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F768-6EAA-4E37-870D-3310E218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74BA6-2DE8-4C19-9AB1-C5DF9872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FF24C-4B3C-460E-A35D-148A7209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1BFBD-E5C5-4EA7-81B2-E435CD4C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5337E-5399-47FF-9AA9-4611E6E9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AB534-9DF4-4CAE-854F-09E5AF10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5D723-686E-4CA5-94F1-2192C957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ABCE3-FC5E-476D-B8B4-D6B5273C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60CC4-0CC7-4D2B-924E-D07865E8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3C4-4C57-4737-9502-C75CA239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9F4D4-617A-4010-AFA3-75613BFA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9B61D-0AC9-4006-8CD0-DF164744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1D98A-1BFA-48D7-9D73-69F9B6D5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FB71A-D014-4E31-A6DF-A56A06A7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2E315-B20E-4B94-8F57-A9F3E2F6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F3AED-46BF-49BB-88BB-3D2CDCEA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DFDEF-5EE4-4E05-96EA-4657FFE7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8647D-F2A0-4BDE-AC4A-9152E3E4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67E6D-8AEA-4F77-9D6F-A4ABC54B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266-812C-4CED-A4D2-02DFB5D2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5715-EF02-4944-9B27-74AD73DD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41B-D51C-4D08-BD62-4E48ACF0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CE6-1161-4507-B178-F944A506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DAE-3CF4-4A8E-B91B-F79047B5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B218-EF30-4841-97AB-B817B7613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3C77-C6A9-4357-9373-9EE19A531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9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CEA4-B386-4025-AAC1-E32CFDF80F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46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84B0-6B87-470F-8315-2D572BBEF1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1785600"/>
            <a:ext cx="77724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cc99ff"/>
                </a:solidFill>
                <a:latin typeface="Arial Black"/>
              </a:rPr>
              <a:t>Guinea</a:t>
            </a:r>
            <a:endParaRPr b="1" lang="en-US" sz="1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99f3ff"/>
                </a:solidFill>
                <a:latin typeface="Arial"/>
              </a:rPr>
              <a:t>By: Erin Picke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3ff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99f3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99f3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99f3ff"/>
                </a:solidFill>
                <a:latin typeface="Arial"/>
              </a:rPr>
              <a:t>Block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3ff"/>
                </a:solidFill>
                <a:latin typeface="Arial"/>
              </a:rPr>
              <a:t>                </a:t>
            </a:r>
            <a:r>
              <a:rPr b="1" lang="en-US" sz="3000" spc="-1" strike="noStrike">
                <a:solidFill>
                  <a:srgbClr val="99f3ff"/>
                </a:solidFill>
                <a:latin typeface="Arial"/>
              </a:rPr>
              <a:t>Mr. Huf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 rot="20497800">
            <a:off x="402840" y="4347720"/>
            <a:ext cx="3516480" cy="19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69520" y="1455480"/>
            <a:ext cx="80564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Arial"/>
              </a:rPr>
              <a:t>Thank you for watching my slide show on Guinea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0066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236aa"/>
                </a:solidFill>
                <a:latin typeface="Arial Black"/>
              </a:rPr>
              <a:t>Location</a:t>
            </a: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78960" cy="47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47fd"/>
                </a:solidFill>
                <a:latin typeface="Arial"/>
              </a:rPr>
              <a:t>The countries bordering Guinea include Côte d'Ivoire, Guinea-Bissau, Liberia, Mali, Senegal, and Sierra Leoneb. Guinea also borders the North Atlantic Ocean on the e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47fd"/>
                </a:solidFill>
                <a:latin typeface="Arial"/>
              </a:rPr>
              <a:t>Guinea’s water sources include the Niger river, Senegal river, and Gambia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47fd"/>
                </a:solidFill>
                <a:latin typeface="Arial"/>
              </a:rPr>
              <a:t>Conakry is the capital of Guinea, and it’s largest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47fd"/>
                </a:solidFill>
                <a:latin typeface="Arial"/>
              </a:rPr>
              <a:t>It’s land area is 245,857 sq k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47fd"/>
                </a:solidFill>
                <a:latin typeface="Arial"/>
              </a:rPr>
              <a:t>It’s current population is estimated                  at 10,211,43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886440" y="4726080"/>
            <a:ext cx="1984680" cy="17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d6edee"/>
                </a:solidFill>
                <a:latin typeface="Arial Black"/>
              </a:rPr>
              <a:t>Location/Map of Guinea</a:t>
            </a:r>
            <a:endParaRPr b="1" lang="en-US" sz="47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mguinea" descr=""/>
          <p:cNvPicPr/>
          <p:nvPr/>
        </p:nvPicPr>
        <p:blipFill>
          <a:blip r:embed="rId2"/>
          <a:stretch/>
        </p:blipFill>
        <p:spPr>
          <a:xfrm>
            <a:off x="900000" y="1905120"/>
            <a:ext cx="3722760" cy="4190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where in Africa is Guinea"/>
          <p:cNvPicPr/>
          <p:nvPr/>
        </p:nvPicPr>
        <p:blipFill>
          <a:blip r:embed="rId3"/>
          <a:stretch/>
        </p:blipFill>
        <p:spPr>
          <a:xfrm>
            <a:off x="4721400" y="1898640"/>
            <a:ext cx="3752640" cy="41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0f4"/>
            </a:gs>
            <a:gs pos="100000">
              <a:srgbClr val="8eaa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0200" y="2840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f0f4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8eaafa"/>
                </a:solidFill>
                <a:latin typeface="Arial Black"/>
              </a:rPr>
              <a:t>Major Historical Event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0740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28c0"/>
                </a:solidFill>
                <a:latin typeface="Arial"/>
              </a:rPr>
              <a:t>1891</a:t>
            </a:r>
            <a:r>
              <a:rPr b="0" lang="en-US" sz="2400" spc="-1" strike="noStrike">
                <a:solidFill>
                  <a:srgbClr val="7028c0"/>
                </a:solidFill>
                <a:latin typeface="Arial"/>
              </a:rPr>
              <a:t> - France declares Guinea to be a colony, separate from Seneg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28c0"/>
                </a:solidFill>
                <a:latin typeface="Arial"/>
              </a:rPr>
              <a:t>1958</a:t>
            </a:r>
            <a:r>
              <a:rPr b="0" lang="en-US" sz="2400" spc="-1" strike="noStrike">
                <a:solidFill>
                  <a:srgbClr val="7028c0"/>
                </a:solidFill>
                <a:latin typeface="Arial"/>
              </a:rPr>
              <a:t> October - Guinea becomes independent, with Ahmed Sekou Toure as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28c0"/>
                </a:solidFill>
                <a:latin typeface="Arial"/>
              </a:rPr>
              <a:t>1996</a:t>
            </a:r>
            <a:r>
              <a:rPr b="0" lang="en-US" sz="2400" spc="-1" strike="noStrike">
                <a:solidFill>
                  <a:srgbClr val="7028c0"/>
                </a:solidFill>
                <a:latin typeface="Arial"/>
              </a:rPr>
              <a:t> - 25% of Guinea’s armed forces rebel over low pay, presidential palace is set on fire, and Approximately 30 people were 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28c0"/>
                </a:solidFill>
                <a:latin typeface="Arial"/>
              </a:rPr>
              <a:t>2005</a:t>
            </a:r>
            <a:r>
              <a:rPr b="0" lang="en-US" sz="2400" spc="-1" strike="noStrike">
                <a:solidFill>
                  <a:srgbClr val="7028c0"/>
                </a:solidFill>
                <a:latin typeface="Arial"/>
              </a:rPr>
              <a:t> January - President Conte survives what security officials say is an assassination attempt, shots were fired as his motorcade passed through th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18400" y="255600"/>
            <a:ext cx="171432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36aa"/>
            </a:gs>
            <a:gs pos="50000">
              <a:srgbClr val="4495a0"/>
            </a:gs>
            <a:gs pos="100000">
              <a:srgbClr val="6236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bb1c1"/>
                </a:solidFill>
                <a:latin typeface="Arial Black"/>
              </a:rPr>
              <a:t>  </a:t>
            </a:r>
            <a:r>
              <a:rPr b="1" lang="en-US" sz="4200" spc="-1" strike="noStrike">
                <a:solidFill>
                  <a:srgbClr val="1bb1c1"/>
                </a:solidFill>
                <a:latin typeface="Arial Black"/>
              </a:rPr>
              <a:t>Major Individuals in Guinea</a:t>
            </a:r>
            <a:endParaRPr b="1" lang="en-US" sz="4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Ahmed Sekou Toure –                                                         President when Guinea                                                            becomes indepen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Louis Lansana Beavogui-                                                                   Had the shortest term                                                                              for Presidency,                                                                               March 26, 1984 - April 3,                                    1984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24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Lansana Conte – Current                                                           President of Guinea,                                              since 1984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4c7a"/>
                </a:solidFill>
                <a:latin typeface="Arial"/>
              </a:rPr>
              <a:t>Ahmed Sekou Toure</a:t>
            </a:r>
            <a:r>
              <a:rPr b="0" lang="en-US" sz="9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624640" y="2023920"/>
            <a:ext cx="3016080" cy="40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50000">
              <a:srgbClr val="8eaafa"/>
            </a:gs>
            <a:gs pos="100000">
              <a:srgbClr val="99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ccecff"/>
                </a:solidFill>
                <a:latin typeface="Arial Black"/>
              </a:rPr>
              <a:t>Current Political Environment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9071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47fd"/>
                </a:solidFill>
                <a:latin typeface="Arial"/>
              </a:rPr>
              <a:t>Guinea’s Government is</a:t>
            </a:r>
            <a:r>
              <a:rPr b="1" lang="en-US" sz="2300" spc="-1" strike="noStrike">
                <a:solidFill>
                  <a:srgbClr val="9947fd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9947fd"/>
                </a:solidFill>
                <a:latin typeface="Arial"/>
              </a:rPr>
              <a:t>Republ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47fd"/>
                </a:solidFill>
                <a:latin typeface="Arial"/>
              </a:rPr>
              <a:t>The Political System is a Democrac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47fd"/>
                </a:solidFill>
                <a:latin typeface="Arial"/>
              </a:rPr>
              <a:t>The President is Lansana Conté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47fd"/>
                </a:solidFill>
                <a:latin typeface="Arial"/>
              </a:rPr>
              <a:t>The Prime Minister is Lansana Kouyaté who was appointed by the Presid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47fd"/>
                </a:solidFill>
                <a:latin typeface="Arial"/>
              </a:rPr>
              <a:t>A major political movement in Guinea is the change from a military government to a democratic government, but is yet complete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47fd"/>
                </a:solidFill>
                <a:latin typeface="Arial"/>
              </a:rPr>
              <a:t>The last presidential election was held on June 19, 20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811840" y="1903320"/>
            <a:ext cx="3132000" cy="44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236aa"/>
                </a:solidFill>
                <a:latin typeface="Arial Black"/>
              </a:rPr>
              <a:t>Major Imports and Export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12880" y="1904760"/>
            <a:ext cx="4163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Im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36aa"/>
                </a:solidFill>
                <a:latin typeface="Arial"/>
              </a:rPr>
              <a:t>Petroleum products, machinery, equipment  and construction materials, other   consumer goods,   service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36aa"/>
                </a:solidFill>
                <a:latin typeface="Arial"/>
              </a:rPr>
              <a:t>Guinea’s import partners include France, China, Belgium, Italy, the Netherlands, the UK, Cot d'Ivoire, and the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51360" y="1930320"/>
            <a:ext cx="3981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Ex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36aa"/>
                </a:solidFill>
                <a:latin typeface="Arial"/>
              </a:rPr>
              <a:t>Bauxite, alumina, gold, diamonds, coffee, fish, and agricultur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36aa"/>
                </a:solidFill>
                <a:latin typeface="Arial"/>
              </a:rPr>
              <a:t>Guinea’s export partners include South Korea, Russia, Spain, Ireland, the United States, Ukraine, and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757920" y="5275440"/>
            <a:ext cx="1735200" cy="14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Arial Black"/>
              </a:rPr>
              <a:t> </a:t>
            </a:r>
            <a:r>
              <a:rPr b="1" lang="en-US" sz="6000" spc="-1" strike="noStrike">
                <a:solidFill>
                  <a:srgbClr val="ccecff"/>
                </a:solidFill>
                <a:latin typeface="Arial Black"/>
              </a:rPr>
              <a:t>Cultural </a:t>
            </a:r>
            <a:r>
              <a:rPr b="1" lang="en-US" sz="5400" spc="-1" strike="noStrike">
                <a:solidFill>
                  <a:srgbClr val="ccecff"/>
                </a:solidFill>
                <a:latin typeface="Arial Black"/>
              </a:rPr>
              <a:t>Activities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50680" y="1884240"/>
            <a:ext cx="416700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66"/>
                </a:solidFill>
                <a:latin typeface="Arial"/>
              </a:rPr>
              <a:t>The official language in Guinea is French. Other languages spoken include Fula, Maninka, Susu, Arabic, Kissi, and Pula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66"/>
                </a:solidFill>
                <a:latin typeface="Arial"/>
              </a:rPr>
              <a:t>85% of Guinea's population is Muslim, and other beliefs include Indigenous and Christian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66"/>
                </a:solidFill>
                <a:latin typeface="Arial"/>
              </a:rPr>
              <a:t>Most people in Guinea are Roman Catholic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66"/>
                </a:solidFill>
                <a:latin typeface="Arial"/>
              </a:rPr>
              <a:t>Guinea has four main ethnic groups; Peuhl, Malinke, Soussous, and several smaller group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57560" y="1905120"/>
            <a:ext cx="38876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The four-day pre-Lent celebrations and parades are a chance for music, dance and culture of the country's different ethnic group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589720" y="2019240"/>
            <a:ext cx="306216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a5e"/>
                </a:solidFill>
                <a:latin typeface="Arial Black"/>
              </a:rPr>
              <a:t>The Future of Guinea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2920" y="1944720"/>
            <a:ext cx="75848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52a93"/>
                </a:solidFill>
                <a:latin typeface="Arial"/>
              </a:rPr>
              <a:t>What I Believe the future holds for Guine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aafa"/>
                </a:solidFill>
                <a:latin typeface="Arial"/>
              </a:rPr>
              <a:t>Guinea will change to a democratic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5bf5"/>
                </a:solidFill>
                <a:latin typeface="Arial"/>
              </a:rPr>
              <a:t>It will become a huge countr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5bf5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55bf5"/>
                </a:solidFill>
                <a:latin typeface="Arial"/>
              </a:rPr>
              <a:t>export, because they are on the            coast, and have many useful                  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2fa1"/>
                </a:solidFill>
                <a:latin typeface="Arial"/>
              </a:rPr>
              <a:t>It’s population will increase, because many people from other countries in Africa will want to move there due to good agriculture, useful exports, and needed im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826320" y="2440080"/>
            <a:ext cx="1828800" cy="221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1:36:41Z</dcterms:created>
  <dc:creator>notebook</dc:creator>
  <dc:description/>
  <dc:language>en-US</dc:language>
  <cp:lastModifiedBy>erinpickens</cp:lastModifiedBy>
  <dcterms:modified xsi:type="dcterms:W3CDTF">2008-11-07T16:40:09Z</dcterms:modified>
  <cp:revision>20</cp:revision>
  <dc:subject/>
  <dc:title>Guinea</dc:title>
</cp:coreProperties>
</file>